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3499-9852-45BD-916D-263C2D1DB64B}" type="slidenum"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 is really a stack of cups and sa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FO = last in first out. The first cup that is removed from a stack of cups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st one that was added to the s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 examples of LIFO lists in real life: stack of trays in a cafeteria; paper stack in a printer or copy machine; newspaper stack at a news 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parenthesis is nearest unmatched parenthesis o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290-86E0-4EB4-A373-6CE47E4C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238-F43F-449E-A57D-B29155E7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347-C96C-4C0A-9252-CC5EA8B4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B50-908C-42FA-A922-D9B621DA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62A-6A51-4120-B802-ECDA2A8D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A63-D2D6-402F-80C8-41189000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CB2-E096-44D8-80B2-DE1919D6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2F3-CFCF-4982-A7BA-A0D60AB8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F81-8E2C-4B52-B8FD-D77DF94C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34B-E389-4108-821A-702C6AE0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823-ED26-4D42-BB2D-8A733E2A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E2F-8EA5-4D70-9B0A-C159BAD6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E151-3078-4DC4-BAEF-3B9602D7CAF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248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56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70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3160" y="5035680"/>
            <a:ext cx="444600" cy="4442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60" y="59436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40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oću olanča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924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rh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ugi karj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raj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davanaje i uklanjanje elemenata obavlja se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š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olj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5029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davanje šolje na st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76920" y="1447920"/>
            <a:ext cx="2895480" cy="3246840"/>
            <a:chOff x="4876920" y="1447920"/>
            <a:chExt cx="2895480" cy="3246840"/>
          </a:xfrm>
        </p:grpSpPr>
        <p:grpSp>
          <p:nvGrpSpPr>
            <p:cNvPr id="57" name=""/>
            <p:cNvGrpSpPr/>
            <p:nvPr/>
          </p:nvGrpSpPr>
          <p:grpSpPr>
            <a:xfrm>
              <a:off x="4876920" y="4114800"/>
              <a:ext cx="2057400" cy="579960"/>
              <a:chOff x="4876920" y="4114800"/>
              <a:chExt cx="2057400" cy="579960"/>
            </a:xfrm>
          </p:grpSpPr>
          <p:sp>
            <p:nvSpPr>
              <p:cNvPr id="58" name=""/>
              <p:cNvSpPr/>
              <p:nvPr/>
            </p:nvSpPr>
            <p:spPr>
              <a:xfrm>
                <a:off x="487692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72200" y="4419720"/>
                <a:ext cx="76212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334120" y="15238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72200" y="18288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6996240" y="3048120"/>
              <a:ext cx="776160" cy="566640"/>
              <a:chOff x="6996240" y="3048120"/>
              <a:chExt cx="776160" cy="566640"/>
            </a:xfrm>
          </p:grpSpPr>
          <p:graphicFrame>
            <p:nvGraphicFramePr>
              <p:cNvPr id="63" name=""/>
              <p:cNvGraphicFramePr/>
              <p:nvPr/>
            </p:nvGraphicFramePr>
            <p:xfrm>
              <a:off x="6996240" y="3048120"/>
              <a:ext cx="776160" cy="566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96240" y="30481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5" name=""/>
              <p:cNvSpPr/>
              <p:nvPr/>
            </p:nvSpPr>
            <p:spPr>
              <a:xfrm>
                <a:off x="723888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996240" y="4114800"/>
              <a:ext cx="776160" cy="566640"/>
              <a:chOff x="6996240" y="4114800"/>
              <a:chExt cx="776160" cy="56664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6996240" y="4114800"/>
              <a:ext cx="776160" cy="566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96240" y="41148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9" name=""/>
              <p:cNvSpPr/>
              <p:nvPr/>
            </p:nvSpPr>
            <p:spPr>
              <a:xfrm>
                <a:off x="723888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996240" y="3581280"/>
              <a:ext cx="776160" cy="567000"/>
              <a:chOff x="6996240" y="3581280"/>
              <a:chExt cx="776160" cy="567000"/>
            </a:xfrm>
          </p:grpSpPr>
          <p:graphicFrame>
            <p:nvGraphicFramePr>
              <p:cNvPr id="71" name=""/>
              <p:cNvGraphicFramePr/>
              <p:nvPr/>
            </p:nvGraphicFramePr>
            <p:xfrm>
              <a:off x="6996240" y="3581280"/>
              <a:ext cx="776160" cy="567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96240" y="35812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" name=""/>
              <p:cNvSpPr/>
              <p:nvPr/>
            </p:nvSpPr>
            <p:spPr>
              <a:xfrm>
                <a:off x="723888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996240" y="2514600"/>
              <a:ext cx="776160" cy="566640"/>
              <a:chOff x="6996240" y="2514600"/>
              <a:chExt cx="776160" cy="566640"/>
            </a:xfrm>
          </p:grpSpPr>
          <p:graphicFrame>
            <p:nvGraphicFramePr>
              <p:cNvPr id="75" name=""/>
              <p:cNvGraphicFramePr/>
              <p:nvPr/>
            </p:nvGraphicFramePr>
            <p:xfrm>
              <a:off x="6996240" y="2514600"/>
              <a:ext cx="776160" cy="566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96240" y="25146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" name=""/>
              <p:cNvSpPr/>
              <p:nvPr/>
            </p:nvSpPr>
            <p:spPr>
              <a:xfrm>
                <a:off x="723888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996240" y="1981080"/>
              <a:ext cx="776160" cy="567000"/>
              <a:chOff x="6996240" y="1981080"/>
              <a:chExt cx="776160" cy="567000"/>
            </a:xfrm>
          </p:grpSpPr>
          <p:graphicFrame>
            <p:nvGraphicFramePr>
              <p:cNvPr id="79" name=""/>
              <p:cNvGraphicFramePr/>
              <p:nvPr/>
            </p:nvGraphicFramePr>
            <p:xfrm>
              <a:off x="6996240" y="1981080"/>
              <a:ext cx="776160" cy="567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996240" y="19810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" name=""/>
              <p:cNvSpPr/>
              <p:nvPr/>
            </p:nvSpPr>
            <p:spPr>
              <a:xfrm>
                <a:off x="723888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996240" y="1447920"/>
              <a:ext cx="776160" cy="566640"/>
              <a:chOff x="6996240" y="1447920"/>
              <a:chExt cx="776160" cy="566640"/>
            </a:xfrm>
          </p:grpSpPr>
          <p:graphicFrame>
            <p:nvGraphicFramePr>
              <p:cNvPr id="83" name=""/>
              <p:cNvGraphicFramePr/>
              <p:nvPr/>
            </p:nvGraphicFramePr>
            <p:xfrm>
              <a:off x="6996240" y="1447920"/>
              <a:ext cx="776160" cy="566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996240" y="14479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5" name=""/>
              <p:cNvSpPr/>
              <p:nvPr/>
            </p:nvSpPr>
            <p:spPr>
              <a:xfrm>
                <a:off x="7238880" y="16002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6094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klanjanje šolje sa ste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ek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F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Last In First Ou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280" y="1981080"/>
            <a:ext cx="2895840" cy="2713680"/>
            <a:chOff x="152280" y="1981080"/>
            <a:chExt cx="2895840" cy="2713680"/>
          </a:xfrm>
        </p:grpSpPr>
        <p:grpSp>
          <p:nvGrpSpPr>
            <p:cNvPr id="88" name=""/>
            <p:cNvGrpSpPr/>
            <p:nvPr/>
          </p:nvGrpSpPr>
          <p:grpSpPr>
            <a:xfrm>
              <a:off x="152280" y="4114800"/>
              <a:ext cx="2057400" cy="579960"/>
              <a:chOff x="152280" y="4114800"/>
              <a:chExt cx="2057400" cy="579960"/>
            </a:xfrm>
          </p:grpSpPr>
          <p:sp>
            <p:nvSpPr>
              <p:cNvPr id="89" name=""/>
              <p:cNvSpPr/>
              <p:nvPr/>
            </p:nvSpPr>
            <p:spPr>
              <a:xfrm>
                <a:off x="15228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47920" y="4419720"/>
                <a:ext cx="76176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85800" y="19810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22860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271600" y="3048120"/>
              <a:ext cx="776520" cy="566640"/>
              <a:chOff x="2271600" y="3048120"/>
              <a:chExt cx="776520" cy="566640"/>
            </a:xfrm>
          </p:grpSpPr>
          <p:graphicFrame>
            <p:nvGraphicFramePr>
              <p:cNvPr id="94" name=""/>
              <p:cNvGraphicFramePr/>
              <p:nvPr/>
            </p:nvGraphicFramePr>
            <p:xfrm>
              <a:off x="2271600" y="3048120"/>
              <a:ext cx="776520" cy="5666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271600" y="304812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6" name=""/>
              <p:cNvSpPr/>
              <p:nvPr/>
            </p:nvSpPr>
            <p:spPr>
              <a:xfrm>
                <a:off x="251460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71600" y="4114800"/>
              <a:ext cx="776520" cy="566640"/>
              <a:chOff x="2271600" y="4114800"/>
              <a:chExt cx="776520" cy="566640"/>
            </a:xfrm>
          </p:grpSpPr>
          <p:graphicFrame>
            <p:nvGraphicFramePr>
              <p:cNvPr id="98" name=""/>
              <p:cNvGraphicFramePr/>
              <p:nvPr/>
            </p:nvGraphicFramePr>
            <p:xfrm>
              <a:off x="2271600" y="4114800"/>
              <a:ext cx="776520" cy="5666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71600" y="41148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0" name=""/>
              <p:cNvSpPr/>
              <p:nvPr/>
            </p:nvSpPr>
            <p:spPr>
              <a:xfrm>
                <a:off x="251460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71600" y="3581280"/>
              <a:ext cx="776520" cy="567000"/>
              <a:chOff x="2271600" y="3581280"/>
              <a:chExt cx="776520" cy="567000"/>
            </a:xfrm>
          </p:grpSpPr>
          <p:graphicFrame>
            <p:nvGraphicFramePr>
              <p:cNvPr id="102" name=""/>
              <p:cNvGraphicFramePr/>
              <p:nvPr/>
            </p:nvGraphicFramePr>
            <p:xfrm>
              <a:off x="2271600" y="3581280"/>
              <a:ext cx="776520" cy="5670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71600" y="35812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" name=""/>
              <p:cNvSpPr/>
              <p:nvPr/>
            </p:nvSpPr>
            <p:spPr>
              <a:xfrm>
                <a:off x="251460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271600" y="2514600"/>
              <a:ext cx="776520" cy="566640"/>
              <a:chOff x="2271600" y="2514600"/>
              <a:chExt cx="776520" cy="566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271600" y="2514600"/>
              <a:ext cx="776520" cy="56664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271600" y="25146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251460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1600" y="1981080"/>
              <a:ext cx="776520" cy="567000"/>
              <a:chOff x="2271600" y="1981080"/>
              <a:chExt cx="776520" cy="567000"/>
            </a:xfrm>
          </p:grpSpPr>
          <p:graphicFrame>
            <p:nvGraphicFramePr>
              <p:cNvPr id="110" name=""/>
              <p:cNvGraphicFramePr/>
              <p:nvPr/>
            </p:nvGraphicFramePr>
            <p:xfrm>
              <a:off x="2271600" y="1981080"/>
              <a:ext cx="776520" cy="5670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271600" y="19810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251460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lazni parov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u,v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kvi da se lijeva zagrada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lapa sa desnom zagradom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34,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c+d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desna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zagrada na poziciji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5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nema odgovarajuće lij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8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lijeva zagrada n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7 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nema odgovarajuće de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jer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073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eniramo ulazni niz slijeva ude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lijevu zagradu, dodamo njenu poziciju na 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desnu zagradu, uklanjamo odgovarajuću poziciju sa ste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22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4956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31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724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43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20:29:39Z</dcterms:modified>
  <cp:revision>251</cp:revision>
  <dc:subject/>
  <dc:title>Data Representation Methods</dc:title>
</cp:coreProperties>
</file>